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87F-B2FF-45A6-8750-FA9F4DCA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2364-32C9-4220-B81E-163BFD86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43F-3DB2-4E87-8E6C-E1608C2E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E784-FA1A-448C-A8E8-375829BF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1BB6-7680-4688-92FF-13ED6653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986E-BF4A-44C4-BA10-29BE8B12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73A-B530-474B-B8A3-A08A0DA6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D4E-4254-490D-B4A4-E41ECD92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9F38-8721-431A-8CAE-EA093FBF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FBBD-BA9E-46C3-978B-A7C6E617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890-A972-4792-A776-A73A7F2A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C61D-DD47-4600-A257-05E1164A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powerpoint slide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powerpoint slide 4.jpg"/>
          <p:cNvPicPr/>
          <p:nvPr/>
        </p:nvPicPr>
        <p:blipFill>
          <a:blip r:embed="rId2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2874-83EF-4683-9949-8276387B38B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3EFB-49EA-4574-BAB7-ECC0A3E9C3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powerpoint slide 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429160" y="285840"/>
            <a:ext cx="2710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Verdana"/>
              </a:rPr>
              <a:t>Senio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powerpoint slide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powerpoint slide 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5429160" y="285840"/>
            <a:ext cx="2710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Verdana"/>
              </a:rPr>
              <a:t>Senio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357120" y="1071720"/>
            <a:ext cx="850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Task 1  </a:t>
            </a: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List the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expectations</a:t>
            </a: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 discu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by group 1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357120" y="1071720"/>
            <a:ext cx="85010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Task 1  </a:t>
            </a: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List the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desired outc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discussed by group 1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428760" y="107172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ask 1 -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285840" y="1714680"/>
            <a:ext cx="8572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2 key expec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2 key desired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5786280" y="11430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Group 1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3:45:17Z</dcterms:created>
  <dc:creator>M Jack</dc:creator>
  <dc:description/>
  <dc:language>en-US</dc:language>
  <cp:lastModifiedBy>JMH</cp:lastModifiedBy>
  <dcterms:modified xsi:type="dcterms:W3CDTF">2009-11-07T11:52:28Z</dcterms:modified>
  <cp:revision>148</cp:revision>
  <dc:subject/>
  <dc:title>Slide 1</dc:title>
</cp:coreProperties>
</file>